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0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D24-7438-4B22-A909-927403A7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563-EB70-4346-A355-4E50BB67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AC6D-0773-4FF6-948E-1922A593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981D-2CBF-493B-8AF1-CFB73A00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58AE-D400-42A6-8008-C9DFAE47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0E54-3FF9-4540-94A8-FBC8F90A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9B9-AAE3-4754-80B1-2DC43407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48F0-94BC-4DA8-A290-E3DFEE59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0D16-DC4F-46F6-A61B-8310DF7C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DEA-024E-4EB8-B84B-AC2DF236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FFF5-2FE9-4BA9-9CB7-73FFFAB9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2835-12D2-480C-A81C-F573C7C8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0F26-B602-4A0F-BE8C-EB468858A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6.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lope-Intercept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7240" y="2093760"/>
            <a:ext cx="40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riting Linear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429000"/>
            <a:ext cx="79246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Equ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 equation whose graph is a straight line when grap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-Interce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Where a line crosses the y-axis (0,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pe-Intercept For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lope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     y-intercept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819520" y="5791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886200" y="579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1000" cy="5850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95280" y="60958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3200400"/>
            <a:ext cx="5105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xplain how changing the value of m affects the graph of a line. Explain how changing the value of b affect the graph of a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Remember to date and highlight this entr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714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16765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3x – 6                                 Y = -4x + 7                         2x + 3Y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3520" y="3581280"/>
            <a:ext cx="78292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108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2590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pe = -3 and y-int = 5                   slope = 2/3 and y-int = 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69343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23888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01000" cy="1633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4400" y="2057400"/>
            <a:ext cx="1676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533412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81880" cy="4227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1828800"/>
            <a:ext cx="2743200" cy="3657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1828800"/>
            <a:ext cx="2514600" cy="3429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1828800"/>
            <a:ext cx="2743200" cy="3657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04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Graphing Linear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281952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53452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153280" cy="995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743200" y="2133720"/>
            <a:ext cx="1981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51055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9:58:37Z</dcterms:created>
  <dc:creator>BRSD</dc:creator>
  <dc:description/>
  <dc:language>en-US</dc:language>
  <cp:lastModifiedBy>Susannah Graham</cp:lastModifiedBy>
  <dcterms:modified xsi:type="dcterms:W3CDTF">2009-08-04T21:20:37Z</dcterms:modified>
  <cp:revision>5</cp:revision>
  <dc:subject/>
  <dc:title>Lesson 6.2 Slope-Intercept Form</dc:title>
</cp:coreProperties>
</file>